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4.jpeg" ContentType="image/jpeg"/>
  <Override PartName="/ppt/media/image9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D15A-BEF7-4C49-970E-F3815833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70C2-7B21-4378-8A12-9E900BFE2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8A259-92A9-4CF1-8DA9-856848B45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155-5507-48E1-AFFD-9585EDB43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C3D8-8CF2-435F-BD9C-2326F43F0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ED56-74FD-4129-863E-942DA5B17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C11E6-08BE-48CB-BFBA-FE4912D5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055A-AD55-40C1-AA2B-A2A927615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41FD-5E48-417D-BEEC-C1BB8DEE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2FDF-4A4B-49BB-B94C-2FEC4623D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2619-D775-4091-A3DB-FE7FC3621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EFC5-9453-4BE6-B440-124769F20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7fafd"/>
            </a:gs>
            <a:gs pos="100000">
              <a:srgbClr val="cee1f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Franklin Gothic Medium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Franklin Gothic Medium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Franklin Gothic Mediu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F07EB-E024-4F07-929E-F38C0E7D8B2D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95A2-A19E-497F-9F0F-A4AFB104342F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646360" y="2709000"/>
            <a:ext cx="398736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r>
              <a:rPr b="1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节   牛顿第一定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惯性及其应用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165240" y="1733400"/>
            <a:ext cx="784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70707"/>
                </a:solidFill>
                <a:latin typeface="隶书"/>
                <a:ea typeface="隶书"/>
              </a:rPr>
              <a:t>第八章   运动和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1490760" y="1379520"/>
            <a:ext cx="6335640" cy="28512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4"/>
          <p:cNvSpPr/>
          <p:nvPr/>
        </p:nvSpPr>
        <p:spPr>
          <a:xfrm>
            <a:off x="479520" y="4883760"/>
            <a:ext cx="8091360" cy="762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当汽车刹车时，人的脚底由于阻力而随之静止，人的上身由于惯性，会保持继续向前运动的状态，所以刹车或减速时，人会向前倾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圆角矩形 26627"/>
          <p:cNvSpPr/>
          <p:nvPr/>
        </p:nvSpPr>
        <p:spPr>
          <a:xfrm>
            <a:off x="3209760" y="619200"/>
            <a:ext cx="2570400" cy="67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汽车突然刹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车的启动"/>
          <p:cNvPicPr/>
          <p:nvPr/>
        </p:nvPicPr>
        <p:blipFill>
          <a:blip r:embed="rId1"/>
          <a:stretch/>
        </p:blipFill>
        <p:spPr>
          <a:xfrm>
            <a:off x="1658880" y="1425600"/>
            <a:ext cx="5757840" cy="2859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12"/>
          <p:cNvSpPr/>
          <p:nvPr/>
        </p:nvSpPr>
        <p:spPr>
          <a:xfrm>
            <a:off x="609480" y="5048280"/>
            <a:ext cx="7925040" cy="762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当汽车从停止状态启动时，人的脚底由于受力而随之运动，人的上身由于惯性，仍保持原来静止状态，所以当汽车启动或加速时，人会向后仰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圆角矩形 27651"/>
          <p:cNvSpPr/>
          <p:nvPr/>
        </p:nvSpPr>
        <p:spPr>
          <a:xfrm>
            <a:off x="2833560" y="592200"/>
            <a:ext cx="3476880" cy="67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汽车突然启动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49,125,-19)"/>
                                          </p:val>
                                        </p:tav>
                                        <p:tav tm="50000">
                                          <p:val>
                                            <p:strVal val="rgb(-63,99,5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8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3048120" y="677880"/>
            <a:ext cx="2979720" cy="67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我们常常利用惯性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6"/>
          <p:cNvGrpSpPr/>
          <p:nvPr/>
        </p:nvGrpSpPr>
        <p:grpSpPr>
          <a:xfrm>
            <a:off x="428760" y="1785960"/>
            <a:ext cx="3343320" cy="3990960"/>
            <a:chOff x="428760" y="1785960"/>
            <a:chExt cx="3343320" cy="3990960"/>
          </a:xfrm>
        </p:grpSpPr>
        <p:pic>
          <p:nvPicPr>
            <p:cNvPr id="93" name="Picture 4" descr="9a9ca7982d2f5d136f068c67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3343320" cy="304884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94" name="TextBox 4"/>
            <p:cNvSpPr/>
            <p:nvPr/>
          </p:nvSpPr>
          <p:spPr>
            <a:xfrm>
              <a:off x="1556640" y="5286960"/>
              <a:ext cx="775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掷铅球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组合 7"/>
          <p:cNvGrpSpPr/>
          <p:nvPr/>
        </p:nvGrpSpPr>
        <p:grpSpPr>
          <a:xfrm>
            <a:off x="4071960" y="1690560"/>
            <a:ext cx="4648320" cy="4405320"/>
            <a:chOff x="4071960" y="1690560"/>
            <a:chExt cx="4648320" cy="4405320"/>
          </a:xfrm>
        </p:grpSpPr>
        <p:pic>
          <p:nvPicPr>
            <p:cNvPr id="96" name="Picture 9" descr="4c65dd55ef0f3d42d10906c7"/>
            <p:cNvPicPr/>
            <p:nvPr/>
          </p:nvPicPr>
          <p:blipFill>
            <a:blip r:embed="rId2"/>
            <a:stretch/>
          </p:blipFill>
          <p:spPr>
            <a:xfrm>
              <a:off x="4071960" y="2285280"/>
              <a:ext cx="4648320" cy="38106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97" name="TextBox 5"/>
            <p:cNvSpPr/>
            <p:nvPr/>
          </p:nvSpPr>
          <p:spPr>
            <a:xfrm>
              <a:off x="5941440" y="1690560"/>
              <a:ext cx="5770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投篮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组合 7"/>
          <p:cNvGrpSpPr/>
          <p:nvPr/>
        </p:nvGrpSpPr>
        <p:grpSpPr>
          <a:xfrm>
            <a:off x="660240" y="1500120"/>
            <a:ext cx="3083040" cy="4664160"/>
            <a:chOff x="660240" y="1500120"/>
            <a:chExt cx="3083040" cy="4664160"/>
          </a:xfrm>
        </p:grpSpPr>
        <p:pic>
          <p:nvPicPr>
            <p:cNvPr id="100" name="Picture 5" descr="3301ea953398aa57d0135e4e"/>
            <p:cNvPicPr/>
            <p:nvPr/>
          </p:nvPicPr>
          <p:blipFill>
            <a:blip r:embed="rId1"/>
            <a:stretch/>
          </p:blipFill>
          <p:spPr>
            <a:xfrm>
              <a:off x="660240" y="1500120"/>
              <a:ext cx="3083040" cy="40014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01" name="TextBox 3"/>
            <p:cNvSpPr/>
            <p:nvPr/>
          </p:nvSpPr>
          <p:spPr>
            <a:xfrm>
              <a:off x="1732320" y="56437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跳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9"/>
          <p:cNvGrpSpPr/>
          <p:nvPr/>
        </p:nvGrpSpPr>
        <p:grpSpPr>
          <a:xfrm>
            <a:off x="4883040" y="2089080"/>
            <a:ext cx="3094200" cy="3341880"/>
            <a:chOff x="4883040" y="2089080"/>
            <a:chExt cx="3094200" cy="3341880"/>
          </a:xfrm>
        </p:grpSpPr>
        <p:pic>
          <p:nvPicPr>
            <p:cNvPr id="103" name="Picture 7" descr="T7-31-2"/>
            <p:cNvPicPr/>
            <p:nvPr/>
          </p:nvPicPr>
          <p:blipFill>
            <a:blip r:embed="rId2"/>
            <a:stretch/>
          </p:blipFill>
          <p:spPr>
            <a:xfrm>
              <a:off x="4883040" y="2089080"/>
              <a:ext cx="3094200" cy="26442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sp>
          <p:nvSpPr>
            <p:cNvPr id="104" name="TextBox 6"/>
            <p:cNvSpPr/>
            <p:nvPr/>
          </p:nvSpPr>
          <p:spPr>
            <a:xfrm>
              <a:off x="5463000" y="4941000"/>
              <a:ext cx="1678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紧固锤头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728800" y="615960"/>
            <a:ext cx="4124520" cy="67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也要避免惯性带来的危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6" descr="200610171461023913"/>
          <p:cNvPicPr/>
          <p:nvPr/>
        </p:nvPicPr>
        <p:blipFill>
          <a:blip r:embed="rId1"/>
          <a:srcRect l="8100" t="0" r="0" b="0"/>
          <a:stretch/>
        </p:blipFill>
        <p:spPr>
          <a:xfrm>
            <a:off x="155520" y="1590840"/>
            <a:ext cx="4919760" cy="4014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9" descr="chehuo1"/>
          <p:cNvPicPr/>
          <p:nvPr/>
        </p:nvPicPr>
        <p:blipFill>
          <a:blip r:embed="rId2"/>
          <a:stretch/>
        </p:blipFill>
        <p:spPr>
          <a:xfrm>
            <a:off x="5203800" y="1538280"/>
            <a:ext cx="3378240" cy="1909800"/>
          </a:xfrm>
          <a:prstGeom prst="rect">
            <a:avLst/>
          </a:prstGeom>
          <a:ln w="0">
            <a:noFill/>
          </a:ln>
        </p:spPr>
      </p:pic>
      <p:sp>
        <p:nvSpPr>
          <p:cNvPr id="109" name="TextBox 5"/>
          <p:cNvSpPr/>
          <p:nvPr/>
        </p:nvSpPr>
        <p:spPr>
          <a:xfrm>
            <a:off x="1965240" y="5646600"/>
            <a:ext cx="117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雨雪天减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C:\Users\Administrator\Desktop\timg (2).jpgtimg (2)"/>
          <p:cNvPicPr/>
          <p:nvPr/>
        </p:nvPicPr>
        <p:blipFill>
          <a:blip r:embed="rId3"/>
          <a:stretch/>
        </p:blipFill>
        <p:spPr>
          <a:xfrm>
            <a:off x="5203800" y="3557520"/>
            <a:ext cx="3392640" cy="20368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8"/>
          <p:cNvSpPr/>
          <p:nvPr/>
        </p:nvSpPr>
        <p:spPr>
          <a:xfrm>
            <a:off x="6068520" y="5711760"/>
            <a:ext cx="136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开车系安全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文本框 1"/>
          <p:cNvSpPr/>
          <p:nvPr/>
        </p:nvSpPr>
        <p:spPr>
          <a:xfrm>
            <a:off x="1236600" y="2957400"/>
            <a:ext cx="48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惯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"/>
          <p:cNvSpPr/>
          <p:nvPr/>
        </p:nvSpPr>
        <p:spPr>
          <a:xfrm>
            <a:off x="2536920" y="1879560"/>
            <a:ext cx="534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惯性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切物体都有保持原来运动状态不变的性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3"/>
          <p:cNvSpPr/>
          <p:nvPr/>
        </p:nvSpPr>
        <p:spPr>
          <a:xfrm>
            <a:off x="2577960" y="3324240"/>
            <a:ext cx="53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惯性的大小由质量决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14"/>
          <p:cNvSpPr/>
          <p:nvPr/>
        </p:nvSpPr>
        <p:spPr>
          <a:xfrm>
            <a:off x="2071800" y="2006640"/>
            <a:ext cx="306360" cy="2724120"/>
          </a:xfrm>
          <a:custGeom>
            <a:avLst/>
            <a:gdLst>
              <a:gd name="textAreaLeft" fmla="*/ 195840 w 306360"/>
              <a:gd name="textAreaRight" fmla="*/ 306360 w 306360"/>
              <a:gd name="textAreaTop" fmla="*/ 66960 h 2724120"/>
              <a:gd name="textAreaBottom" fmla="*/ 2657160 h 2724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52"/>
                  <a:pt x="10800" y="1704"/>
                </a:cubicBezTo>
                <a:lnTo>
                  <a:pt x="10800" y="9096"/>
                </a:lnTo>
                <a:cubicBezTo>
                  <a:pt x="10800" y="9948"/>
                  <a:pt x="5400" y="10800"/>
                  <a:pt x="0" y="10800"/>
                </a:cubicBezTo>
                <a:cubicBezTo>
                  <a:pt x="5400" y="10800"/>
                  <a:pt x="10800" y="11652"/>
                  <a:pt x="10800" y="12504"/>
                </a:cubicBezTo>
                <a:lnTo>
                  <a:pt x="10800" y="19896"/>
                </a:lnTo>
                <a:cubicBezTo>
                  <a:pt x="10800" y="20748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4"/>
          <p:cNvSpPr/>
          <p:nvPr/>
        </p:nvSpPr>
        <p:spPr>
          <a:xfrm>
            <a:off x="2593800" y="4494240"/>
            <a:ext cx="534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惯性的应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副标题 2"/>
          <p:cNvSpPr/>
          <p:nvPr/>
        </p:nvSpPr>
        <p:spPr>
          <a:xfrm>
            <a:off x="3670200" y="1432080"/>
            <a:ext cx="1914480" cy="56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旧知复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副标题 2"/>
          <p:cNvSpPr/>
          <p:nvPr/>
        </p:nvSpPr>
        <p:spPr>
          <a:xfrm>
            <a:off x="857160" y="2303640"/>
            <a:ext cx="298620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牛顿第一定律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副标题 2"/>
          <p:cNvSpPr/>
          <p:nvPr/>
        </p:nvSpPr>
        <p:spPr>
          <a:xfrm>
            <a:off x="928800" y="3162240"/>
            <a:ext cx="770400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一切物体在没有受到力的作用时，总保持静止状态或匀速直线运动状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4"/>
          <p:cNvSpPr/>
          <p:nvPr/>
        </p:nvSpPr>
        <p:spPr>
          <a:xfrm>
            <a:off x="608040" y="2475000"/>
            <a:ext cx="79930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知道什么是惯性，知道一切物体都有惯性；（重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会用惯性知识解释惯性现象。（难点）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1"/>
          <p:cNvSpPr/>
          <p:nvPr/>
        </p:nvSpPr>
        <p:spPr>
          <a:xfrm>
            <a:off x="3624120" y="1533600"/>
            <a:ext cx="18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学习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导入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351000" y="1341360"/>
            <a:ext cx="3751200" cy="2586240"/>
          </a:xfrm>
          <a:prstGeom prst="rect">
            <a:avLst/>
          </a:prstGeom>
          <a:ln w="0">
            <a:noFill/>
          </a:ln>
        </p:spPr>
      </p:pic>
      <p:sp>
        <p:nvSpPr>
          <p:cNvPr id="51" name="副标题 2"/>
          <p:cNvSpPr/>
          <p:nvPr/>
        </p:nvSpPr>
        <p:spPr>
          <a:xfrm>
            <a:off x="311040" y="4229280"/>
            <a:ext cx="3816360" cy="67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用力击打一摞棋子中下面的一颗，情况怎样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4392720" y="1407960"/>
            <a:ext cx="4244760" cy="2498760"/>
          </a:xfrm>
          <a:prstGeom prst="rect">
            <a:avLst/>
          </a:prstGeom>
          <a:ln w="0">
            <a:noFill/>
          </a:ln>
        </p:spPr>
      </p:pic>
      <p:sp>
        <p:nvSpPr>
          <p:cNvPr id="53" name="副标题 2"/>
          <p:cNvSpPr/>
          <p:nvPr/>
        </p:nvSpPr>
        <p:spPr>
          <a:xfrm>
            <a:off x="4317840" y="4229280"/>
            <a:ext cx="4542120" cy="67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想想看，身体向前倾、向后仰的原因是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515880" y="1488960"/>
            <a:ext cx="8097840" cy="762120"/>
          </a:xfrm>
          <a:prstGeom prst="roundRect">
            <a:avLst>
              <a:gd name="adj" fmla="val 16667"/>
            </a:avLst>
          </a:prstGeom>
          <a:noFill/>
          <a:ln w="22320">
            <a:solidFill>
              <a:srgbClr val="38572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一切物体都有保持原来运动状态不变的性质，这种性质叫</a:t>
            </a:r>
            <a:r>
              <a:rPr b="0" lang="zh-CN" sz="2600" spc="-1" strike="noStrike">
                <a:solidFill>
                  <a:srgbClr val="0000ff"/>
                </a:solidFill>
                <a:latin typeface="Times New Roman"/>
                <a:ea typeface="黑体"/>
              </a:rPr>
              <a:t>惯性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4309920" y="4259160"/>
            <a:ext cx="4332600" cy="124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杯子中盛满牛奶，突然急速拉动杯子，会看到什么现象？为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5" descr=""/>
          <p:cNvPicPr/>
          <p:nvPr/>
        </p:nvPicPr>
        <p:blipFill>
          <a:blip r:embed="rId1"/>
          <a:stretch/>
        </p:blipFill>
        <p:spPr>
          <a:xfrm>
            <a:off x="907920" y="4213080"/>
            <a:ext cx="2924280" cy="1994040"/>
          </a:xfrm>
          <a:prstGeom prst="rect">
            <a:avLst/>
          </a:prstGeom>
          <a:ln w="0">
            <a:noFill/>
          </a:ln>
        </p:spPr>
      </p:pic>
      <p:grpSp>
        <p:nvGrpSpPr>
          <p:cNvPr id="58" name="组合 6147"/>
          <p:cNvGrpSpPr/>
          <p:nvPr/>
        </p:nvGrpSpPr>
        <p:grpSpPr>
          <a:xfrm>
            <a:off x="358920" y="423720"/>
            <a:ext cx="2232000" cy="806760"/>
            <a:chOff x="358920" y="423720"/>
            <a:chExt cx="2232000" cy="806760"/>
          </a:xfrm>
        </p:grpSpPr>
        <p:sp>
          <p:nvSpPr>
            <p:cNvPr id="59" name="矩形 7"/>
            <p:cNvSpPr/>
            <p:nvPr/>
          </p:nvSpPr>
          <p:spPr>
            <a:xfrm>
              <a:off x="918720" y="423720"/>
              <a:ext cx="1672200" cy="75996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任意多边形 16"/>
            <p:cNvSpPr/>
            <p:nvPr/>
          </p:nvSpPr>
          <p:spPr>
            <a:xfrm>
              <a:off x="358920" y="711000"/>
              <a:ext cx="524160" cy="48132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矩形 17"/>
            <p:cNvSpPr/>
            <p:nvPr/>
          </p:nvSpPr>
          <p:spPr>
            <a:xfrm>
              <a:off x="720720" y="660600"/>
              <a:ext cx="163440" cy="16776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7760" bIns="-482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6151"/>
            <p:cNvSpPr/>
            <p:nvPr/>
          </p:nvSpPr>
          <p:spPr>
            <a:xfrm>
              <a:off x="1059480" y="69732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惯性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文本框 6152"/>
            <p:cNvSpPr/>
            <p:nvPr/>
          </p:nvSpPr>
          <p:spPr>
            <a:xfrm>
              <a:off x="358920" y="709920"/>
              <a:ext cx="55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5b9bd5"/>
                  </a:solidFill>
                  <a:latin typeface="微软雅黑"/>
                  <a:ea typeface="微软雅黑"/>
                </a:rPr>
                <a:t>一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3"/>
          <p:cNvGrpSpPr/>
          <p:nvPr/>
        </p:nvGrpSpPr>
        <p:grpSpPr>
          <a:xfrm>
            <a:off x="668160" y="3165480"/>
            <a:ext cx="5616360" cy="793800"/>
            <a:chOff x="668160" y="3165480"/>
            <a:chExt cx="5616360" cy="793800"/>
          </a:xfrm>
        </p:grpSpPr>
        <p:sp>
          <p:nvSpPr>
            <p:cNvPr id="65" name="TextBox 4"/>
            <p:cNvSpPr/>
            <p:nvPr/>
          </p:nvSpPr>
          <p:spPr>
            <a:xfrm>
              <a:off x="2537640" y="3357000"/>
              <a:ext cx="3746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你能用惯性的知识解释下面这些现象吗？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" name="Picture 6" descr="？"/>
            <p:cNvPicPr/>
            <p:nvPr/>
          </p:nvPicPr>
          <p:blipFill>
            <a:blip r:embed="rId2"/>
            <a:stretch/>
          </p:blipFill>
          <p:spPr>
            <a:xfrm>
              <a:off x="668160" y="3165480"/>
              <a:ext cx="595440" cy="793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7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385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" dur="385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4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6" dur="385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8"/>
          <p:cNvSpPr/>
          <p:nvPr/>
        </p:nvSpPr>
        <p:spPr>
          <a:xfrm>
            <a:off x="527040" y="1197000"/>
            <a:ext cx="8053560" cy="762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牛奶向右洒出。因为牛奶开始处于静止状态，当杯子突然向左运动，牛奶因为有惯性，要保持静止状态，所以向杯子右侧洒出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4309920" y="4259160"/>
            <a:ext cx="4332600" cy="1244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在杯子中盛满牛奶，突然急速拉动杯子，会看到什么现象？为什么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"/>
          <p:cNvPicPr/>
          <p:nvPr/>
        </p:nvPicPr>
        <p:blipFill>
          <a:blip r:embed="rId1"/>
          <a:stretch/>
        </p:blipFill>
        <p:spPr>
          <a:xfrm>
            <a:off x="907920" y="4213080"/>
            <a:ext cx="2924280" cy="1994040"/>
          </a:xfrm>
          <a:prstGeom prst="rect">
            <a:avLst/>
          </a:prstGeom>
          <a:ln w="0">
            <a:noFill/>
          </a:ln>
        </p:spPr>
      </p:pic>
      <p:sp>
        <p:nvSpPr>
          <p:cNvPr id="71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副标题 2"/>
          <p:cNvSpPr/>
          <p:nvPr/>
        </p:nvSpPr>
        <p:spPr>
          <a:xfrm>
            <a:off x="3665520" y="641520"/>
            <a:ext cx="185724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惯性解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"/>
          <p:cNvSpPr/>
          <p:nvPr/>
        </p:nvSpPr>
        <p:spPr>
          <a:xfrm>
            <a:off x="500040" y="1627200"/>
            <a:ext cx="8077320" cy="687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惯性是物体本身的一种属性，一切物体都有惯性，即无论物体是静止还是运动，无论物体是受力还是不受力，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在任何时候、任何状态下都具有惯性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"/>
          <p:cNvSpPr/>
          <p:nvPr/>
        </p:nvSpPr>
        <p:spPr>
          <a:xfrm>
            <a:off x="474840" y="3930480"/>
            <a:ext cx="8130960" cy="1281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惯性不是力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，在解答问题时，只能说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由于惯性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”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具有惯性”。而不能说“受到惯性”“由于惯性的作用”“克服惯性”等，否则就将惯性和作用混为一谈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2"/>
          <p:cNvSpPr/>
          <p:nvPr/>
        </p:nvSpPr>
        <p:spPr>
          <a:xfrm>
            <a:off x="725400" y="2311560"/>
            <a:ext cx="7858080" cy="6879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所有的物体都有惯性，但不同物体的惯性大小是不同的，物体的惯性</a:t>
            </a:r>
            <a:r>
              <a:rPr b="0" lang="zh-CN" sz="2600" spc="-1" strike="noStrike">
                <a:solidFill>
                  <a:srgbClr val="0000ff"/>
                </a:solidFill>
                <a:latin typeface="黑体"/>
                <a:ea typeface="黑体"/>
              </a:rPr>
              <a:t>只与物体的质量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有关，物体的质量越大，惯性越大；物体的质量越小，惯性越小，质量是物体惯性的量度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副标题 2"/>
          <p:cNvSpPr/>
          <p:nvPr/>
        </p:nvSpPr>
        <p:spPr>
          <a:xfrm>
            <a:off x="3665520" y="641520"/>
            <a:ext cx="1857240" cy="68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惯性解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TextBox 2"/>
          <p:cNvSpPr/>
          <p:nvPr/>
        </p:nvSpPr>
        <p:spPr>
          <a:xfrm>
            <a:off x="4165560" y="1112760"/>
            <a:ext cx="4425840" cy="674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54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跑动中的人，脚被绊住，为什么会向前倒？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3"/>
          <p:cNvSpPr/>
          <p:nvPr/>
        </p:nvSpPr>
        <p:spPr>
          <a:xfrm>
            <a:off x="4211640" y="3773880"/>
            <a:ext cx="4464000" cy="14202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85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600" spc="-1" strike="noStrike">
                <a:solidFill>
                  <a:srgbClr val="000000"/>
                </a:solidFill>
                <a:latin typeface="黑体"/>
                <a:ea typeface="黑体"/>
              </a:rPr>
              <a:t>跑动中的人开始向前运动，脚被绊停止，而身体有惯性，要保持向前的运动状态，继续向前运动，所以人向前摔倒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3" descr="20040828031614c54dd"/>
          <p:cNvPicPr/>
          <p:nvPr/>
        </p:nvPicPr>
        <p:blipFill>
          <a:blip r:embed="rId1"/>
          <a:stretch/>
        </p:blipFill>
        <p:spPr>
          <a:xfrm>
            <a:off x="681120" y="1639800"/>
            <a:ext cx="2732040" cy="338940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4103"/>
          <p:cNvSpPr/>
          <p:nvPr/>
        </p:nvSpPr>
        <p:spPr>
          <a:xfrm>
            <a:off x="10620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/>
  <dc:description/>
  <dc:language>en-US</dc:language>
  <cp:lastModifiedBy>Administrator</cp:lastModifiedBy>
  <dcterms:modified xsi:type="dcterms:W3CDTF">2019-01-09T07:40:25Z</dcterms:modified>
  <cp:revision>2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</Properties>
</file>